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760-1BEC-45D6-94DE-FEDF646E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D7C-E239-4ED7-87F2-15378FD5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8B5-C08D-4026-BAB8-03A3038E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9EF-7004-4C89-9028-98B19ABE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67D3-CA86-4746-B5C6-AEF06409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5EBD-7DFE-4BCB-B74D-4AC83320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05D3-B5AE-4986-9164-BC298994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BEF4-759B-4038-A8CB-167D0C75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A6BA-1920-4A37-93B5-997C31F8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E7E6-D726-4227-89BB-0517566F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71C3-3A52-4A70-9B2D-68ABDB7E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87F-3C54-4030-8D77-CE8B83E0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0FCD-9E4E-49DE-8F4A-F673ED97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ABB0-B82E-4B4E-A985-C5C0119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A38A-D4DD-45F6-B4DB-2C1F37D6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552D-F7FF-4115-AF16-BEA14F88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76CC-E7C9-4E5A-B84F-5B546842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1DE4-74D4-42D3-9817-08804ED9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C6C6-EAC3-45F3-810D-0A18A64A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2733-0BCF-4D3B-9E86-AB8ED0C9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3542-A270-4B23-86E1-D07F8C67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8FA5-F1A9-444B-877C-2BE3FB24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41E-B810-4055-9EA5-A975DF73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DD71-41A6-44F6-98A8-200615D4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31EF3-8C0D-4F3E-8EE3-52ABA8BB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E14D-19EF-466C-A824-3144BBE2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6A1FD-1380-4C6F-9281-D95BF051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74BFF-791F-4DAA-941D-27F38057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B9FE-3BE2-41D5-99D7-34289E85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55EDB-0263-4A82-99E9-87344350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EDBC5-FD1D-441F-AA9B-FCE95D8E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49D27-2F2C-4482-B396-CFB48A36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FF28-FDA6-4208-89B2-5A08E40B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D16-E4D2-454E-A6E0-8B275C1C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1AD7-E758-4667-B6E2-FD8BFE60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A176-4235-46F9-9B7C-D00304A8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DB132-48F9-4D8E-8DF5-86FD204E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B3906-1FA5-4B6C-88C7-C458850A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1FF91-2458-4C8F-B51F-C15371B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493C3-141C-46BB-ABA8-EF1043B0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7A4D6-9620-4BC0-8B24-8E4884AC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F958-E1EA-4291-8BC1-D0A42ED6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A30E-82CB-4E9D-83A8-16C07669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6B7-E442-4FBF-8377-511AE4BE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622-2F29-4994-AD16-0BF57139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EC2-AD51-4567-8257-EE1ACAF4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0B2-AE43-4B06-8AB9-B6B55628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D25-C581-403E-8F6F-FF85A5FB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44830-EF93-4715-8037-49E4EF6051ED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28"/>
            <p:cNvSpPr/>
            <p:nvPr/>
          </p:nvSpPr>
          <p:spPr>
            <a:xfrm>
              <a:off x="0" y="-720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3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3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9D2F3-8CB6-4FC8-8FAD-FC1CF47630BC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A9FA2-1EDB-464B-B5DC-68346CFF4C1A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56FA1-90CA-46A1-A0B4-DADE50847260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30480" y="2404800"/>
            <a:ext cx="44434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5fcbef"/>
                </a:solidFill>
                <a:latin typeface="Trebuchet MS"/>
              </a:rPr>
              <a:t>What is Abstract Art?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Non objective a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109520" y="255600"/>
            <a:ext cx="37213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225000"/>
            <a:ext cx="8596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is Abstract Art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1274760"/>
            <a:ext cx="859644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rebuchet MS"/>
              </a:rPr>
              <a:t>The only subject is Art and how it is ma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The meaning is to create an experience triggered by the designs and the colours, that may stimulat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Your imagina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Creativit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Memor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Emo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Give you Energ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Etc.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is Abstract Art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How is this Good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rebuchet MS"/>
              </a:rPr>
              <a:t>Helps us understand the purpose of Ar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Helps us understand how to make better Ar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rebuchet MS"/>
              </a:rPr>
              <a:t>Helps us understand what people like/dislike about Ar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rebuchet MS"/>
              </a:rPr>
              <a:t>Inspiration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y do we look at art?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6997680" y="1109520"/>
            <a:ext cx="3325680" cy="3605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3822840" y="2287440"/>
            <a:ext cx="2655720" cy="3670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184320" y="2517840"/>
            <a:ext cx="31194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y do we look at art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Trebuchet MS"/>
              </a:rPr>
              <a:t>What it makes us think about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What it reminds us of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rebuchet MS"/>
              </a:rPr>
              <a:t>How it makes us feel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makes art Good or Ba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makes art Good or Ba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ontent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 – What the Art is abou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rebuchet MS"/>
              </a:rPr>
              <a:t>Form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 – How the Art is made or experienced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Design – Use of space and balance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Use of the elements – Line, Shape, Texture, Value, Shading, Contras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makes art Good or Ba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Content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– What the Art is abou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rebuchet MS"/>
              </a:rPr>
              <a:t>Not everyone likes the same thin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Some may like pictures of flowers for example and some won’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The art could be very well made and still only be liked by a few because of the conte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74261"/>
                </a:solidFill>
                <a:latin typeface="Trebuchet MS"/>
              </a:rPr>
              <a:t>Specific subject= limited audienc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makes art Good or Ba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rebuchet MS"/>
              </a:rPr>
              <a:t>Form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 – How the Art is made or experienced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Design – Use of space and balance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Use of the elements – Line, Shape, Texture, Value, Shading, Contras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is Abstract Art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1930320"/>
            <a:ext cx="859644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rebuchet MS"/>
              </a:rPr>
              <a:t>What does ‘Abstract’ mean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o summarize, simplify, reduce to most basic part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is Abstract Art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To summarize, simplify, reduce to most basic par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Trebuchet MS"/>
              </a:rPr>
              <a:t>Content (why it exists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e experience of Ar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rt itself is the subjec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it makes us feel and think abou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 of colour etc. for effect – Memory, emotion, energ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rebuchet MS"/>
              </a:rPr>
              <a:t>Form  (How it is mad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Basic elements of art – Line, shape, texture, etc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ny materi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11:59:26Z</dcterms:created>
  <dc:creator>Lowe, Chris (ASD-S)</dc:creator>
  <dc:description/>
  <dc:language>en-US</dc:language>
  <cp:lastModifiedBy>Lowe, Chris (ASD-S)</cp:lastModifiedBy>
  <dcterms:modified xsi:type="dcterms:W3CDTF">2015-04-27T17:44:01Z</dcterms:modified>
  <cp:revision>16</cp:revision>
  <dc:subject/>
  <dc:title>Abstract Art</dc:title>
</cp:coreProperties>
</file>